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0B6-0CD8-463F-ABD2-A23A4246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920-974A-4485-AC55-44A7F74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3EF-0293-4219-8A12-32BF00F9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E69-7C9C-4C35-976A-B40F79AB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BC1-785E-40BE-80BC-1C2FC03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161-899B-480C-9A1C-6E298962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EDC-3D8B-431E-BFBD-0825BCEE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ECD-5758-4814-A369-CF7EE64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9A5-FB77-4D3E-B99D-6F81E78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C55-EFDE-4784-8254-2A816FE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730-4547-4EB0-8B9F-14CD8DD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C13-9554-4FCD-9649-797ECFE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6A51-8A88-41CC-8475-9A5A108E37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DY HERNANDE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GREECE CITY-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http://t3.gstatic.com/images?q=tbn:ANd9GcQalGNXvKWpGoFR-RYGajaV48NFtnSxQk-yrBDh28G2bvHJPryh"/>
          <p:cNvPicPr/>
          <p:nvPr/>
        </p:nvPicPr>
        <p:blipFill>
          <a:blip r:embed="rId1"/>
          <a:stretch/>
        </p:blipFill>
        <p:spPr>
          <a:xfrm>
            <a:off x="228600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TUDY OF WISDOM AND THE RIGHT WAY TO LIV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http://t2.gstatic.com/images?q=tbn:ANd9GcS5zl6vRmfhkmtf-m-_o9ZNJw7AQk-LycUkSHq7gIYO8hvQtNIuQQ"/>
          <p:cNvPicPr/>
          <p:nvPr/>
        </p:nvPicPr>
        <p:blipFill>
          <a:blip r:embed="rId1"/>
          <a:stretch/>
        </p:blipFill>
        <p:spPr>
          <a:xfrm>
            <a:off x="2057400" y="274320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http://t0.gstatic.com/images?q=tbn:ANd9GcTKp9af7CbcDVTOHdcquSb5NTtB0I-jLsnUj9zJGxKsUBEU3HfNpA"/>
          <p:cNvPicPr/>
          <p:nvPr/>
        </p:nvPicPr>
        <p:blipFill>
          <a:blip r:embed="rId1"/>
          <a:stretch/>
        </p:blipFill>
        <p:spPr>
          <a:xfrm>
            <a:off x="1523880" y="2514600"/>
            <a:ext cx="5307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LOPONNESIAN WA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0" y="16765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2286000" y="3200400"/>
            <a:ext cx="38862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KIND OF GOVERNMENT THAT IS RUN BY A SMALL GROUP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http://t0.gstatic.com/images?q=tbn:ANd9GcR3fTo6cG9nRK1hBQm6lyBsGV07gcTI6LY2djstUbYJ-xIcJir3"/>
          <p:cNvPicPr/>
          <p:nvPr/>
        </p:nvPicPr>
        <p:blipFill>
          <a:blip r:embed="rId1"/>
          <a:stretch/>
        </p:blipFill>
        <p:spPr>
          <a:xfrm>
            <a:off x="1828800" y="2209680"/>
            <a:ext cx="49528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HELTERED PLACE ALONG A COAS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http://t3.gstatic.com/images?q=tbn:ANd9GcQoQNBiZLxyhNfi6rh8UJ5HLPe84La627gVAlb9kMm5uxbQKwbyjQ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7" descr="http://t3.gstatic.com/images?q=tbn:ANd9GcRp5iTfJ-W_ZaD-6U4xy8PaF-KcDMY3k4OhYlcY9ws7Ma3LM6Tk-g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http://t0.gstatic.com/images?q=tbn:ANd9GcQkKIPX_D3IZFd0TMJePcqZZPMyRy78aoBvtU2LPopRwcN32LXQ5w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LAWNMAKING PLACE WHERE PEOPLE VOTED ON ISSUES THAT HELPED THEIR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http://t0.gstatic.com/images?q=tbn:ANd9GcSBkKdar38gxKRk3bZAXowOczju_UJjUyQ7v2J0OO-3Ab0DiauDbg"/>
          <p:cNvPicPr/>
          <p:nvPr/>
        </p:nvPicPr>
        <p:blipFill>
          <a:blip r:embed="rId1"/>
          <a:stretch/>
        </p:blipFill>
        <p:spPr>
          <a:xfrm>
            <a:off x="1752480" y="20574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ERSON WHO HAS CERTAIN RIGHTS AND RESPNOSIBILITIES TO HIS OR HE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http://t1.gstatic.com/images?q=tbn:ANd9GcSIHnNYn5CXGkct-SGjJ895cYeZ_KsuKWXUIS4wQOf_FhO_0DZfog"/>
          <p:cNvPicPr/>
          <p:nvPr/>
        </p:nvPicPr>
        <p:blipFill>
          <a:blip r:embed="rId1"/>
          <a:stretch/>
        </p:blipFill>
        <p:spPr>
          <a:xfrm>
            <a:off x="1905120" y="2743200"/>
            <a:ext cx="5110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GROUP OF PEOPLE WHO LIVED APART FROM GREECE BUT KEPT ECONOMNC  TIES WITH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http://t3.gstatic.com/images?q=tbn:ANd9GcRXPnYIB8CENapDP2PDTJAmwvlRf5p9X__ey8gHfi8RU4lg4OR4Ew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FORM OF GOVERNMENT WHERE PEOPLE VOTE TO MAKE DECI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http://t2.gstatic.com/images?q=tbn:ANd9GcT23rTk6mREOJSLmOyJU5zm_juDv-XjiU4ppzYz7aZzkSfPcdFNtg"/>
          <p:cNvPicPr/>
          <p:nvPr/>
        </p:nvPicPr>
        <p:blipFill>
          <a:blip r:embed="rId1"/>
          <a:stretch/>
        </p:blipFill>
        <p:spPr>
          <a:xfrm>
            <a:off x="2971800" y="2133720"/>
            <a:ext cx="2895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HEAR EVIDENCE AND MAKE DECISIONS IN COURT OF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http://t0.gstatic.com/images?q=tbn:ANd9GcRqDrCGG13mDJ0NJ9PNWs26xHnUxEwhfplnXC9NW_PFDjL4YJLViQ"/>
          <p:cNvPicPr/>
          <p:nvPr/>
        </p:nvPicPr>
        <p:blipFill>
          <a:blip r:embed="rId1"/>
          <a:stretch/>
        </p:blipFill>
        <p:spPr>
          <a:xfrm>
            <a:off x="1828800" y="2057400"/>
            <a:ext cx="48769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t2.gstatic.com/images?q=tbn:ANd9GcTED0nbbbNf_uFXTNn5-Y5cfQ-QTqurrF6gqzMMPFhVZC72tR8ATA"/>
          <p:cNvPicPr/>
          <p:nvPr/>
        </p:nvPicPr>
        <p:blipFill>
          <a:blip r:embed="rId1"/>
          <a:stretch/>
        </p:blipFill>
        <p:spPr>
          <a:xfrm>
            <a:off x="2514600" y="205740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1:13Z</dcterms:modified>
  <cp:revision>97</cp:revision>
  <dc:subject/>
  <dc:title>Ancient Greece</dc:title>
</cp:coreProperties>
</file>